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994-960C-440D-BAB0-D97203BD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C25-3C46-467A-BC41-677DE002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53894-5E2F-45D8-8818-D7F332D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D2793-36B0-4E8F-936E-BB6C8B5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0A03B-190F-4872-9441-A19B5CE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EA665-F1DA-4B7F-99CB-20905E05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0410-0B1B-4405-B4A4-09C55D3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DF538-EAFC-4A3F-BEDD-4E2D1617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FAC7B-BFB7-409C-ACCE-C1F84A5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608F-2453-4405-934D-44231E57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7CE7F-5A28-4284-818D-C500FD56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851E9-D297-4DAC-AACD-8EA1C29A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F65-7A0F-43F3-B9AE-F7AAB42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3C1E-D7E0-45B3-8651-7F6CC82F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455F2-57BA-416F-984E-310E6D88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B392F-9F9A-4B04-8CE8-39F83390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EF5B2-D79F-437B-A8EC-6BBA9C3C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8A0E2-E3CF-4C15-BF18-263D4B27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135F9-7DF1-42CB-B9E4-B942C707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71D36-B40C-4A2E-B6D8-7F30B7F1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63A9-9502-4BB3-9B40-78C4D75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7389D-09C2-49E5-9CC4-02C0FC38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98809-93DE-4835-B295-277957E1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DD4-D751-4526-9754-B42DE280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E0D26-ECEE-41F4-8D5A-5B34264C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E44F3-B932-4A27-BEBF-6514F744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546FB-2568-4CFB-A19A-9C21B6B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C9F4C-AEFF-4567-99B1-AD7E76A0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A2455-881C-4895-9357-8E89656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0B678-2452-47BC-A4D1-77185183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E6856-B5E5-42D8-9833-E9AEDC4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551BA-2133-489D-A4D3-E1CA830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7C22-93F6-4A35-89AA-37790E8D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4752F-A7EC-49DB-8B05-2C42128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894-1314-4C22-9156-7A0EA6F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1261-A7AD-4115-9075-BB4C9D15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F2C3B-BF29-491B-978E-64EDDE2C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4E0F0-D8F3-4699-B4B0-F4BBD73D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D1EB1-4919-42A2-8C1D-2A774666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18A1D-F76B-4036-8FB5-5553E89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B7EAF-4ED1-4DC9-8A14-3AC1D0E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5D6C2-62DA-45A0-B987-833B212F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EAD3-2F0B-482C-BED0-61E6BF95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2BE0C-D311-4024-86E7-EAD4C325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A817A-3A6F-4210-82C3-50FBAE69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215-6BA8-4861-8678-963BB960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6F9BC-E10B-4A95-A0C6-44C42A8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18FE2-9AF1-4543-AC5A-A59576E8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D34C9-18F0-43ED-8072-43BF46AB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092C1-DC86-4D87-8144-4F047691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BB11F-0377-4B5C-BDBA-342EFC5A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B4D0F-3C45-49E5-915E-2FAFB8F3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D7E67-418E-49A3-8363-999B0DF9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98C81-868E-4179-9AF3-AB1AFB8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22D9E-204C-4C89-9599-5E0A05AE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6A0AE-A4DB-45F3-AE17-50877C84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2D30-3F98-4DAD-8D64-D4E2AFC3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6F7E2-A53D-4CBA-84D0-12C546EC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D1CA5-F501-47E9-976D-BD56A69F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F639-2CBD-4854-A320-6A119E1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0E032-331B-401B-B99B-BF57CCE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467A5-EA7B-4852-92C6-31963D2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66CFA-B86B-43B4-AD39-70AB576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7DF84-8CFD-4F1B-88E0-A4D013C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17C6A-2545-4C9F-B6AF-9A5ADDB6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F76C7-3F5B-460F-B29A-1A5A0BD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BF59E-99D0-4647-A57D-F9B6C7C8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A7FE-6A4E-4C3E-A432-B0064BEE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181E2-26EA-4DCD-8418-CD43D18B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3BE5B-770C-4555-B131-A0A1AFA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B6F00-8044-4CE4-A136-6E44ACB1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E53A4-625C-4EEC-BC03-5E15EB6E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FEA37-3C1E-4CBF-B8CC-05E06A61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C83E8-68C3-456F-A5D0-E615F24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D3D72-F2E1-4206-9E9F-C9B316DB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FAEE2-F9DC-4667-91E4-0195014F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3DD45-0C32-46B9-B1EE-62D7D013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5E7B2-E458-463D-A49E-AE53CCC0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E86-5F02-48C3-982A-51BFE2B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F1EFC0-0E50-48C2-B266-989C73B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4D9D5-E2B0-4EF6-8561-C66D8D00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DF6D4-6552-45BC-80B4-3D8E1DAD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ED58F-916B-4603-98B7-4E0F067C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80A41-B282-4064-8410-23B605ED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1DB3A-8B19-4036-A33E-290B660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1DB6D-3FAC-4A3A-A4BB-EE661E8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EF981-F6A5-473D-90EF-762A4A8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058F7-1FAF-4625-AACA-25238915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1E55F-443C-46C6-8ACA-A70E202D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AEA9-73FC-4383-963A-3B3AFDC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A4B87-4A93-46A4-A64D-1340C1C8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94247-70E0-4A2C-85BA-982B7275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E4583-8EC0-4272-9778-0C0E17D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06E2A-2DC6-4E1F-9764-C27DC1B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63188C-5886-4580-9FDD-1E272D6A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E3E61-C685-4A06-B0C7-FD8FFB12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4B3E4-5714-47C1-BCDA-F8E0AA49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9B3D6-7B30-477B-BF01-8311E08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EB208E-5132-4066-9DA8-40CA03A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EA04A-59D2-41B9-8B9A-4E63F431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2A0-D4C0-4A4F-A3C1-C289477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C57B9-0BAF-46E0-97CE-CEC7B9AD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C5F81-8BD7-49AF-9ECE-0F2A12BA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2710E-EA26-4ECB-A9A7-72D15EA9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89288-C887-49A8-B1C9-16109D61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F13A3-D691-453F-A0E2-221B0B69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5ECA4-7288-4E5E-8ED9-DF9C4130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45C06-DBCD-44C1-B1E9-4C5AC3D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1E88C-59C2-4CD5-9F76-114182C0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21346-3778-46CD-97DA-3B3EE8C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C31C7-5DAC-47CF-B9DC-EBBD4287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4AB-6E8A-4418-A52B-3ECC311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31AF-7187-4B4F-9A58-C2F18DF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A76DF-A49F-4547-9059-D207EA6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391D8-FD48-4C49-A382-B99575B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2E5C3-1841-4C3B-8912-24721C7E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A7FAA-3DED-48C8-942C-81751F50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C3894-31A6-454D-9592-04F99254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D55AC-D99B-466A-843F-7EC2F9EE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85A7E-0BB1-4FAC-900E-FF5A463C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11547-2E1F-4979-A976-E7B0B526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2B398-FAFD-488A-AE19-F317D3D3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2E44E-5AD6-4D29-A9C3-5822FC9E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7971-ECDD-4635-A0A8-2A58C38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19E05-AE73-46E6-9194-C798FEB4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D576C-49CE-4BE8-9691-3EAFFC26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468965-008E-41AB-8652-53F1A16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8E113-BB3E-4D8B-BFA1-4182841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4B747-3A19-45A7-897E-E84D6E5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02F54-777A-435B-855F-BA94A05D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990D8-B469-41FA-BEDE-83489AC4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F5EA2-63C2-4252-A5D7-B67D3085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45B0D-3CA4-4438-99C8-F3AD3CB0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C4296-438D-433F-AE67-76E17AED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07C3-B20E-4621-9AD5-E51C89C2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EEE85-1989-4733-8DFC-6BB2255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DA742B-8C03-40F4-82C5-869B0D71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6731A-7EFF-468C-971D-B85B6F43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76E12C-7E14-4686-9EBA-F879A5B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8B00F-2DAE-470A-8FAA-A70655B5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4B9A8-8726-43CA-BA56-0121444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19C03-648B-4A11-B5DC-D522B83B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D7BB42-CE1B-43AC-82FF-FC5D805F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3E34E-6F50-4714-9945-F249DEF0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F8F2C-7027-45F5-BB5A-5CF60B72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A80C-70E9-4883-823A-D02E30C7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A59AB-AE77-459F-AA42-E85044DF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960735-FC6C-49A6-94E4-BB390CD6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EE8A0A-F567-4B4B-98F0-C735CB2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75831-FCF5-4C61-9F7D-24FD0959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A7014-F1E2-498E-B735-EE05DA12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E36443-241F-4255-BB01-A9F699C0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20A57-A471-45AE-A5D0-40B7BBC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94F57-9A34-40DB-A37B-DC9C1E1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D4640-765A-4046-AE41-CBC85625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06624-B44F-47F6-B43C-E64D417D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620A-66AD-49A4-BC8D-E03370B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DD896-F27D-4254-860D-D4BF1A8F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60DD8-34F1-4B4F-A942-826E58D5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705B4-CB54-40C6-8CD1-B3197EF3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ED5E3-AA33-47B6-9C5E-4170C3F4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03BBEC-8A96-4BC4-89E0-5B8D297B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4A941-E7C6-4E56-A612-12E3C72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A3D6C-2806-4649-BCFD-D3EBDDC4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99430-6CEF-48F5-89FD-BFEB89E1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B6610-C8A4-47AC-9FAD-5850227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DA0E0-D9A4-4EB5-AD2D-DD1FD68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B6B6-D1F2-47FB-8E4D-2383C78B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F68C60-6AC3-4976-9777-7BBEE950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E866B-B231-45F7-A19B-70444ED9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B0068B-533E-461F-8A13-988C887D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23123-F9FB-4950-86C1-825A9D87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B91C0-7D9F-444F-A2CC-740D72C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1613D-AAD9-483B-88C3-7A36EA4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453BC-CABD-41C7-B7D6-81579D38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357569-076C-46A2-B246-2432578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D77F78-BD47-49B8-BBEE-DC80E02C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BDC91A-3073-43FE-A985-907C4A3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C2AC-8C42-4791-BE40-0427732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7D7DCC-FD76-4DFB-A731-CA109EB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FBC4A-2071-4E03-BAF3-D8BA57CA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7A35CA-6579-43E7-AA7E-D957ECD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B1BF5-88A3-41D0-8124-5958332F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FF043-D1D8-4062-9714-C5533579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73647-2774-43CA-A0AC-F7FAB014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24BDB6-396B-41A0-A428-C2A13679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B5B2E-DFB8-49FB-BD26-1E9EA2F6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60799C-5144-4865-B869-B1E8017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5C40D7-614C-40E3-9650-5F32EE63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B7CA-B91A-4C33-8322-0A09FE0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90C309-5CA3-4C4F-BC39-C84561DC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072D6-997A-4CF7-95DE-7D2FD15E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752057-BE52-4CE8-88DE-2BBADC4F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1F3283-5815-49B7-A51D-A1BE039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ADDBD-7D76-437C-ABCA-2AF2DEEE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A9F93-B1C2-4B56-8595-91849206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171A1-FD42-41F8-A032-E94F3785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5896-9BE1-4A12-9200-B03F0F83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771A-F043-4094-A9D0-9BD7F5C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A8D-702B-4514-A9C3-12C714A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4645-2C8D-452E-B8E2-966E0232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C95F-A42F-4A14-BCE2-0FD6EB8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A3F9-21DE-4382-A0EA-0505766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2799-9F49-4CCD-B5B2-5A9F1DE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D0F0-4454-42A8-8154-111CC53F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62EB-97E6-4FF0-99D9-B89BC810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026E-7B8B-421A-8B3A-2CAFE600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BC5E-53F4-40C5-8D7B-A6E89D57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A71E-CC29-4ACD-9964-E3D27BA7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5FFD-41D2-4B5B-B58B-446A454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2C7-3024-4AF0-BE04-766899EA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C58C-96D8-4AA8-88D2-1E5C596B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9D19E-1CA9-4FA0-8449-477422B1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3B25-967A-45E9-8926-8FD4FD75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7F78-7686-43BE-B835-7C8C7DBD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D644B-D00C-416B-8CCF-E3A5408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C863-EADB-47E4-BD3E-786189E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B34B-3D04-4E0D-ABCF-A570CBFD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D55AC-519B-4B66-9ED6-F1CB3CEC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37B29-13F8-4940-A56C-D9009A58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747F-E4D8-43B0-B15A-918B5A88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B09-00FD-492C-BBB0-F8281772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5F0A-FFAB-4D81-871C-05DB1313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5AAF-56B1-4481-94D7-F278E450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099B2-E214-4EA0-B935-9C1B127A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80A6-ED96-40E2-8847-D206700C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6D3F-2BC2-4D5D-BB8A-9C766829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707A9-8B52-4EC4-BE3B-8410112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B597-66A0-4568-9B3D-E574642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7004-ED32-4D4D-A1CA-B5277A3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1FE5-6E7C-407A-A8B7-828F2B9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87D9E-048D-47DD-9662-F073E53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76F-450F-4AF3-9488-D5AC7968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7401-B5E3-445E-A8B5-E8251F41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44FA-5488-404F-8638-D3A0F8BD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FE798-B8A6-4AE7-A86B-8023F110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BBBE-BB8C-4E8A-A4FA-FF31AC8D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DA54F-0167-4B8B-986D-F21E3BF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BC4D-0BA6-4721-AA81-D33E9002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51F3-44B4-4A56-B076-CA69BF3D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533E-EBDC-4AB2-8CF5-1E615F99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FBABC-DA8A-442A-B5FC-6BCDC85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A8404-09F9-48F9-8F3A-07A2D77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1E3-F71A-424F-B616-0DFCE379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D689F-5D76-4885-ABE1-A4550516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81F8-73CE-476F-AAF3-D8031610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D23C-FEAE-403A-A4AB-BF5AA72B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1EB6-BEF1-4C42-A9DF-E50C176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67AFF-673D-4CEA-8497-3EB8D3B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4495-CBFC-47E1-8882-35BDBD97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47D1-99B5-490A-BC61-F0AFCC4C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7477-3914-427F-B28E-60FE54D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F649A-3374-4CB6-AFC3-D0FAEA4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309D-35F8-4C57-B051-85D55E5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C67-06C5-468D-86DB-FC1453B0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97D8A-E421-468A-8021-EED74485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0F76-501C-4E41-A66A-8FF65DA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42F6-D98C-41D1-937E-61B7EEA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162F3-B54A-4462-ABCC-CB3AEEAD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78E24-2B04-4EF3-ABF4-04E1079D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A44B9-70E0-4181-84DD-9CDE30E1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72F7-061E-460A-AA77-A074E73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09DC-BE49-4205-AE46-5A452B80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A26A-D2E8-410C-A995-E437DDEF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4020-F6FE-4270-8D91-EF5D41BF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0F4-725E-4F18-8ED7-512685D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B54B9-F651-4719-B643-879D5604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6293-543E-41DE-9749-E8BF9E4C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3057F-FC7A-4E91-A1EE-B69EC9B6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D5FC-FF9D-4C9F-8765-8DF3D655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10C46-9516-4A79-BC24-2DFB8BE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E91FE-31D4-4F89-8A38-8C51C7F0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2D3AD-4684-4DDD-AC4A-26B8585D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BF145-34BE-4E7D-9EDB-2565F545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18084-AF11-4179-ABCD-E8BB0B71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284A3-D97D-401E-9406-95535245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4511-5723-424D-8DF2-712ED98456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2A2C-E2E1-4A5C-969B-38B4F322E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B3C6-4CA6-4D38-B528-FF4D38242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C3EE-78A4-4E9D-8CF5-AC191D802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59FF-056A-4E6F-8EE1-B29B093AF8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B6BA-F188-47AF-85A0-A553F23B5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BE5-F125-4FA9-A663-C007F24D2F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6BA0-A4EA-47B5-8F5A-34AADD818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70EA-3613-4CA3-8026-B8D89064C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8959-A06D-4BE1-BA65-F1B2FA06B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5304-C156-411A-A093-6260106746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76FB-2790-40D8-B967-CFABA66492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152C-24C1-44A4-86F2-74A8DC787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110-6638-4582-A65B-9626E590A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B55D-0ABA-442C-AF23-A0EE1CA63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8B4-8989-4DCD-A4EB-C62F26992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D38-DDDB-4FFE-B05C-D9B48AC50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408-0B97-44DE-A258-ED13D5EC6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618A-F080-4B60-B2AE-F67253303E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F44F-619A-4C41-B09F-8A2F2F455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8413-203E-4092-A563-4EB5B43BF4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69F-2E41-4F8F-828C-22C622C3BE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53A-A7E8-4221-B90A-E1F7E6F9D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5CE9-5508-4B17-9CBE-3CE0890DE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D40B-2DD2-479F-8F59-BE0FC5825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76F-BC8D-45DE-AF57-09CB736D4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914-4926-4CBE-A1BF-82E482306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4963-590B-40BF-85A2-B8E8F21630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C89-0372-42EE-938D-25FD66720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0DC-513B-49B9-8329-EDAE61570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01F6-2D6B-4A14-ABCB-859FBC95C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3FA-BC36-4DA4-A4F6-4576F09C9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42F-6423-43C1-ADBF-FFB54C9871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B18-865A-4CE8-9D8C-EE897AAD84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73A2-47CC-4A70-B1A1-31849FFE8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0F5-5702-4EA2-90B0-9BBB0A245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5CA-4710-4FA9-A4E3-E472002B71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6CC-CF35-4106-B943-5F76A1BA2B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63F-E30B-48A3-BDF5-6062F892D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6CC-6BB4-408F-B1DA-383206435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3E97-7086-403B-82EE-9049350A1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8DAA-D8EA-4F7C-AB64-3A24713CA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95400" y="2963880"/>
            <a:ext cx="8953200" cy="255276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17618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图片 1" descr=""/>
          <p:cNvPicPr/>
          <p:nvPr/>
        </p:nvPicPr>
        <p:blipFill>
          <a:blip r:embed="rId1"/>
          <a:stretch/>
        </p:blipFill>
        <p:spPr>
          <a:xfrm>
            <a:off x="790560" y="2666880"/>
            <a:ext cx="7562880" cy="152424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图片 1" descr=""/>
          <p:cNvPicPr/>
          <p:nvPr/>
        </p:nvPicPr>
        <p:blipFill>
          <a:blip r:embed="rId1"/>
          <a:stretch/>
        </p:blipFill>
        <p:spPr>
          <a:xfrm>
            <a:off x="90360" y="825480"/>
            <a:ext cx="8961480" cy="546588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2"/>
          <a:stretch/>
        </p:blipFill>
        <p:spPr>
          <a:xfrm>
            <a:off x="39528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图片 1" descr=""/>
          <p:cNvPicPr/>
          <p:nvPr/>
        </p:nvPicPr>
        <p:blipFill>
          <a:blip r:embed="rId1"/>
          <a:stretch/>
        </p:blipFill>
        <p:spPr>
          <a:xfrm>
            <a:off x="123840" y="1471680"/>
            <a:ext cx="8896320" cy="39146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3"/>
          <a:stretch/>
        </p:blipFill>
        <p:spPr>
          <a:xfrm>
            <a:off x="468360" y="1855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" descr=""/>
          <p:cNvPicPr/>
          <p:nvPr/>
        </p:nvPicPr>
        <p:blipFill>
          <a:blip r:embed="rId4"/>
          <a:stretch/>
        </p:blipFill>
        <p:spPr>
          <a:xfrm>
            <a:off x="468360" y="2247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5"/>
          <a:stretch/>
        </p:blipFill>
        <p:spPr>
          <a:xfrm>
            <a:off x="468360" y="26654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6"/>
          <a:stretch/>
        </p:blipFill>
        <p:spPr>
          <a:xfrm>
            <a:off x="439560" y="30114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7"/>
          <a:stretch/>
        </p:blipFill>
        <p:spPr>
          <a:xfrm>
            <a:off x="46836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8"/>
          <a:stretch/>
        </p:blipFill>
        <p:spPr>
          <a:xfrm>
            <a:off x="468360" y="3860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9"/>
          <a:stretch/>
        </p:blipFill>
        <p:spPr>
          <a:xfrm>
            <a:off x="46836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" descr=""/>
          <p:cNvPicPr/>
          <p:nvPr/>
        </p:nvPicPr>
        <p:blipFill>
          <a:blip r:embed="rId10"/>
          <a:stretch/>
        </p:blipFill>
        <p:spPr>
          <a:xfrm>
            <a:off x="46836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890640" y="549360"/>
            <a:ext cx="736272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图片 1" descr=""/>
          <p:cNvPicPr/>
          <p:nvPr/>
        </p:nvPicPr>
        <p:blipFill>
          <a:blip r:embed="rId1"/>
          <a:stretch/>
        </p:blipFill>
        <p:spPr>
          <a:xfrm>
            <a:off x="34920" y="833400"/>
            <a:ext cx="9075600" cy="5875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" descr=""/>
          <p:cNvPicPr/>
          <p:nvPr/>
        </p:nvPicPr>
        <p:blipFill>
          <a:blip r:embed="rId4"/>
          <a:stretch/>
        </p:blipFill>
        <p:spPr>
          <a:xfrm>
            <a:off x="39528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5"/>
          <a:stretch/>
        </p:blipFill>
        <p:spPr>
          <a:xfrm>
            <a:off x="395280" y="36021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6"/>
          <a:stretch/>
        </p:blipFill>
        <p:spPr>
          <a:xfrm>
            <a:off x="395280" y="55738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100080" y="928800"/>
            <a:ext cx="89424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图片 1" descr=""/>
          <p:cNvPicPr/>
          <p:nvPr/>
        </p:nvPicPr>
        <p:blipFill>
          <a:blip r:embed="rId1"/>
          <a:stretch/>
        </p:blipFill>
        <p:spPr>
          <a:xfrm>
            <a:off x="90360" y="809640"/>
            <a:ext cx="8961480" cy="543708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图片 1" descr=""/>
          <p:cNvPicPr/>
          <p:nvPr/>
        </p:nvPicPr>
        <p:blipFill>
          <a:blip r:embed="rId1"/>
          <a:stretch/>
        </p:blipFill>
        <p:spPr>
          <a:xfrm>
            <a:off x="595440" y="2081160"/>
            <a:ext cx="7951680" cy="269568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" descr=""/>
          <p:cNvPicPr/>
          <p:nvPr/>
        </p:nvPicPr>
        <p:blipFill>
          <a:blip r:embed="rId2"/>
          <a:stretch/>
        </p:blipFill>
        <p:spPr>
          <a:xfrm>
            <a:off x="1919160" y="4776840"/>
            <a:ext cx="6627960" cy="39996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" descr=""/>
          <p:cNvPicPr/>
          <p:nvPr/>
        </p:nvPicPr>
        <p:blipFill>
          <a:blip r:embed="rId3"/>
          <a:stretch/>
        </p:blipFill>
        <p:spPr>
          <a:xfrm>
            <a:off x="900000" y="20462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图片 1" descr=""/>
          <p:cNvPicPr/>
          <p:nvPr/>
        </p:nvPicPr>
        <p:blipFill>
          <a:blip r:embed="rId1"/>
          <a:stretch/>
        </p:blipFill>
        <p:spPr>
          <a:xfrm>
            <a:off x="57240" y="880920"/>
            <a:ext cx="90295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图片 1" descr=""/>
          <p:cNvPicPr/>
          <p:nvPr/>
        </p:nvPicPr>
        <p:blipFill>
          <a:blip r:embed="rId1"/>
          <a:stretch/>
        </p:blipFill>
        <p:spPr>
          <a:xfrm>
            <a:off x="128520" y="1100160"/>
            <a:ext cx="8885160" cy="465768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2"/>
          <a:stretch/>
        </p:blipFill>
        <p:spPr>
          <a:xfrm>
            <a:off x="684360" y="1959120"/>
            <a:ext cx="410364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3"/>
          <a:stretch/>
        </p:blipFill>
        <p:spPr>
          <a:xfrm>
            <a:off x="826920" y="2795760"/>
            <a:ext cx="4104000" cy="3492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" descr=""/>
          <p:cNvPicPr/>
          <p:nvPr/>
        </p:nvPicPr>
        <p:blipFill>
          <a:blip r:embed="rId4"/>
          <a:stretch/>
        </p:blipFill>
        <p:spPr>
          <a:xfrm>
            <a:off x="826920" y="3630600"/>
            <a:ext cx="4104000" cy="349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5"/>
          <a:stretch/>
        </p:blipFill>
        <p:spPr>
          <a:xfrm>
            <a:off x="900000" y="4479840"/>
            <a:ext cx="4103640" cy="3492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" descr=""/>
          <p:cNvPicPr/>
          <p:nvPr/>
        </p:nvPicPr>
        <p:blipFill>
          <a:blip r:embed="rId6"/>
          <a:stretch/>
        </p:blipFill>
        <p:spPr>
          <a:xfrm>
            <a:off x="900000" y="5315040"/>
            <a:ext cx="5904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39680" y="714240"/>
            <a:ext cx="2562120" cy="5716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336600" y="1644480"/>
            <a:ext cx="7770600" cy="4572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35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84360" y="5445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图片 1" descr=""/>
          <p:cNvPicPr/>
          <p:nvPr/>
        </p:nvPicPr>
        <p:blipFill>
          <a:blip r:embed="rId1"/>
          <a:stretch/>
        </p:blipFill>
        <p:spPr>
          <a:xfrm>
            <a:off x="181080" y="1457280"/>
            <a:ext cx="8781840" cy="39434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2"/>
          <a:stretch/>
        </p:blipFill>
        <p:spPr>
          <a:xfrm>
            <a:off x="5435640" y="3313080"/>
            <a:ext cx="865080" cy="3492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3"/>
          <a:stretch/>
        </p:blipFill>
        <p:spPr>
          <a:xfrm>
            <a:off x="2916360" y="3716280"/>
            <a:ext cx="122400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158436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5"/>
          <a:stretch/>
        </p:blipFill>
        <p:spPr>
          <a:xfrm>
            <a:off x="6315120" y="4581360"/>
            <a:ext cx="1368360" cy="3495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" descr=""/>
          <p:cNvPicPr/>
          <p:nvPr/>
        </p:nvPicPr>
        <p:blipFill>
          <a:blip r:embed="rId6"/>
          <a:stretch/>
        </p:blipFill>
        <p:spPr>
          <a:xfrm>
            <a:off x="4859280" y="4998960"/>
            <a:ext cx="1368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图片 1" descr=""/>
          <p:cNvPicPr/>
          <p:nvPr/>
        </p:nvPicPr>
        <p:blipFill>
          <a:blip r:embed="rId1"/>
          <a:stretch/>
        </p:blipFill>
        <p:spPr>
          <a:xfrm>
            <a:off x="528480" y="2181240"/>
            <a:ext cx="8085240" cy="249552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2"/>
          <a:stretch/>
        </p:blipFill>
        <p:spPr>
          <a:xfrm>
            <a:off x="3059280" y="2549520"/>
            <a:ext cx="1225440" cy="3492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" descr=""/>
          <p:cNvPicPr/>
          <p:nvPr/>
        </p:nvPicPr>
        <p:blipFill>
          <a:blip r:embed="rId3"/>
          <a:stretch/>
        </p:blipFill>
        <p:spPr>
          <a:xfrm>
            <a:off x="3635280" y="2997360"/>
            <a:ext cx="1225800" cy="34920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" descr=""/>
          <p:cNvPicPr/>
          <p:nvPr/>
        </p:nvPicPr>
        <p:blipFill>
          <a:blip r:embed="rId4"/>
          <a:stretch/>
        </p:blipFill>
        <p:spPr>
          <a:xfrm>
            <a:off x="2700360" y="3400560"/>
            <a:ext cx="934920" cy="3492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5"/>
          <a:stretch/>
        </p:blipFill>
        <p:spPr>
          <a:xfrm>
            <a:off x="3995640" y="3817800"/>
            <a:ext cx="1225800" cy="3495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6"/>
          <a:stretch/>
        </p:blipFill>
        <p:spPr>
          <a:xfrm>
            <a:off x="5076720" y="4235400"/>
            <a:ext cx="12258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图片 1" descr=""/>
          <p:cNvPicPr/>
          <p:nvPr/>
        </p:nvPicPr>
        <p:blipFill>
          <a:blip r:embed="rId1"/>
          <a:stretch/>
        </p:blipFill>
        <p:spPr>
          <a:xfrm>
            <a:off x="237960" y="1747800"/>
            <a:ext cx="8809200" cy="29224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" descr=""/>
          <p:cNvPicPr/>
          <p:nvPr/>
        </p:nvPicPr>
        <p:blipFill>
          <a:blip r:embed="rId2"/>
          <a:stretch/>
        </p:blipFill>
        <p:spPr>
          <a:xfrm>
            <a:off x="2556000" y="2981160"/>
            <a:ext cx="5256000" cy="3495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3"/>
          <a:stretch/>
        </p:blipFill>
        <p:spPr>
          <a:xfrm>
            <a:off x="1258920" y="3817800"/>
            <a:ext cx="10094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图片 1" descr=""/>
          <p:cNvPicPr/>
          <p:nvPr/>
        </p:nvPicPr>
        <p:blipFill>
          <a:blip r:embed="rId1"/>
          <a:stretch/>
        </p:blipFill>
        <p:spPr>
          <a:xfrm>
            <a:off x="114480" y="1343160"/>
            <a:ext cx="8915400" cy="417168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2"/>
          <a:stretch/>
        </p:blipFill>
        <p:spPr>
          <a:xfrm>
            <a:off x="2268360" y="1297080"/>
            <a:ext cx="381636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3"/>
          <a:stretch/>
        </p:blipFill>
        <p:spPr>
          <a:xfrm>
            <a:off x="1979640" y="2133720"/>
            <a:ext cx="475308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4"/>
          <a:stretch/>
        </p:blipFill>
        <p:spPr>
          <a:xfrm>
            <a:off x="6738840" y="4249800"/>
            <a:ext cx="237672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5"/>
          <a:stretch/>
        </p:blipFill>
        <p:spPr>
          <a:xfrm>
            <a:off x="208080" y="4665600"/>
            <a:ext cx="2376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图片 1" descr=""/>
          <p:cNvPicPr/>
          <p:nvPr/>
        </p:nvPicPr>
        <p:blipFill>
          <a:blip r:embed="rId1"/>
          <a:stretch/>
        </p:blipFill>
        <p:spPr>
          <a:xfrm>
            <a:off x="228600" y="131760"/>
            <a:ext cx="8478720" cy="659448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2"/>
          <a:stretch/>
        </p:blipFill>
        <p:spPr>
          <a:xfrm>
            <a:off x="784080" y="5530680"/>
            <a:ext cx="1297080" cy="3495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3"/>
          <a:stretch/>
        </p:blipFill>
        <p:spPr>
          <a:xfrm>
            <a:off x="3059280" y="5532480"/>
            <a:ext cx="129672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4"/>
          <a:stretch/>
        </p:blipFill>
        <p:spPr>
          <a:xfrm>
            <a:off x="5219640" y="5530680"/>
            <a:ext cx="1297080" cy="3495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5"/>
          <a:stretch/>
        </p:blipFill>
        <p:spPr>
          <a:xfrm>
            <a:off x="7451640" y="5516640"/>
            <a:ext cx="1297080" cy="3492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" descr=""/>
          <p:cNvPicPr/>
          <p:nvPr/>
        </p:nvPicPr>
        <p:blipFill>
          <a:blip r:embed="rId6"/>
          <a:stretch/>
        </p:blipFill>
        <p:spPr>
          <a:xfrm>
            <a:off x="826920" y="5935680"/>
            <a:ext cx="1297080" cy="349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7"/>
          <a:stretch/>
        </p:blipFill>
        <p:spPr>
          <a:xfrm>
            <a:off x="3102120" y="5937120"/>
            <a:ext cx="1296720" cy="34956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8"/>
          <a:stretch/>
        </p:blipFill>
        <p:spPr>
          <a:xfrm>
            <a:off x="5262480" y="5935680"/>
            <a:ext cx="129708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9"/>
          <a:stretch/>
        </p:blipFill>
        <p:spPr>
          <a:xfrm>
            <a:off x="7494480" y="5921280"/>
            <a:ext cx="129708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10"/>
          <a:stretch/>
        </p:blipFill>
        <p:spPr>
          <a:xfrm>
            <a:off x="826920" y="6337440"/>
            <a:ext cx="129708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11"/>
          <a:stretch/>
        </p:blipFill>
        <p:spPr>
          <a:xfrm>
            <a:off x="3102120" y="6338880"/>
            <a:ext cx="129672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1" name="图片 1" descr=""/>
          <p:cNvPicPr/>
          <p:nvPr/>
        </p:nvPicPr>
        <p:blipFill>
          <a:blip r:embed="rId1"/>
          <a:stretch/>
        </p:blipFill>
        <p:spPr>
          <a:xfrm>
            <a:off x="152280" y="728640"/>
            <a:ext cx="8839440" cy="540072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" descr=""/>
          <p:cNvPicPr/>
          <p:nvPr/>
        </p:nvPicPr>
        <p:blipFill>
          <a:blip r:embed="rId2"/>
          <a:stretch/>
        </p:blipFill>
        <p:spPr>
          <a:xfrm>
            <a:off x="179280" y="5705640"/>
            <a:ext cx="8964720" cy="34920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" descr=""/>
          <p:cNvPicPr/>
          <p:nvPr/>
        </p:nvPicPr>
        <p:blipFill>
          <a:blip r:embed="rId3"/>
          <a:stretch/>
        </p:blipFill>
        <p:spPr>
          <a:xfrm>
            <a:off x="8431200" y="5286240"/>
            <a:ext cx="56196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图片 1" descr=""/>
          <p:cNvPicPr/>
          <p:nvPr/>
        </p:nvPicPr>
        <p:blipFill>
          <a:blip r:embed="rId1"/>
          <a:stretch/>
        </p:blipFill>
        <p:spPr>
          <a:xfrm>
            <a:off x="133200" y="1957320"/>
            <a:ext cx="8877600" cy="29433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" descr=""/>
          <p:cNvPicPr/>
          <p:nvPr/>
        </p:nvPicPr>
        <p:blipFill>
          <a:blip r:embed="rId2"/>
          <a:stretch/>
        </p:blipFill>
        <p:spPr>
          <a:xfrm>
            <a:off x="179280" y="194472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" descr=""/>
          <p:cNvPicPr/>
          <p:nvPr/>
        </p:nvPicPr>
        <p:blipFill>
          <a:blip r:embed="rId3"/>
          <a:stretch/>
        </p:blipFill>
        <p:spPr>
          <a:xfrm>
            <a:off x="208080" y="23637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" descr=""/>
          <p:cNvPicPr/>
          <p:nvPr/>
        </p:nvPicPr>
        <p:blipFill>
          <a:blip r:embed="rId4"/>
          <a:stretch/>
        </p:blipFill>
        <p:spPr>
          <a:xfrm>
            <a:off x="130320" y="2781360"/>
            <a:ext cx="8956440" cy="349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" descr=""/>
          <p:cNvPicPr/>
          <p:nvPr/>
        </p:nvPicPr>
        <p:blipFill>
          <a:blip r:embed="rId5"/>
          <a:stretch/>
        </p:blipFill>
        <p:spPr>
          <a:xfrm>
            <a:off x="222120" y="319896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" descr=""/>
          <p:cNvPicPr/>
          <p:nvPr/>
        </p:nvPicPr>
        <p:blipFill>
          <a:blip r:embed="rId6"/>
          <a:stretch/>
        </p:blipFill>
        <p:spPr>
          <a:xfrm>
            <a:off x="144360" y="3616200"/>
            <a:ext cx="89568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514440" y="1690560"/>
            <a:ext cx="8115120" cy="3476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900000" y="3213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900000" y="36162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826920" y="4437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62080" y="1890720"/>
            <a:ext cx="8618400" cy="30765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419040" y="1714680"/>
            <a:ext cx="8305920" cy="34290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289080" y="774720"/>
            <a:ext cx="6343560" cy="39060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219240" y="1373040"/>
            <a:ext cx="8705520" cy="46278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4"/>
          <a:stretch/>
        </p:blipFill>
        <p:spPr>
          <a:xfrm>
            <a:off x="46836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5"/>
          <a:stretch/>
        </p:blipFill>
        <p:spPr>
          <a:xfrm>
            <a:off x="46836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6"/>
          <a:stretch/>
        </p:blipFill>
        <p:spPr>
          <a:xfrm>
            <a:off x="468360" y="414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7"/>
          <a:stretch/>
        </p:blipFill>
        <p:spPr>
          <a:xfrm>
            <a:off x="539640" y="53006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62000" y="744480"/>
            <a:ext cx="8820000" cy="5962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438120" y="1700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468360" y="2852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46836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图片 1" descr=""/>
          <p:cNvPicPr/>
          <p:nvPr/>
        </p:nvPicPr>
        <p:blipFill>
          <a:blip r:embed="rId1"/>
          <a:stretch/>
        </p:blipFill>
        <p:spPr>
          <a:xfrm>
            <a:off x="123840" y="746280"/>
            <a:ext cx="8896320" cy="5762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5"/>
          <a:stretch/>
        </p:blipFill>
        <p:spPr>
          <a:xfrm>
            <a:off x="46836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6"/>
          <a:stretch/>
        </p:blipFill>
        <p:spPr>
          <a:xfrm>
            <a:off x="395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7"/>
          <a:stretch/>
        </p:blipFill>
        <p:spPr>
          <a:xfrm>
            <a:off x="468360" y="5373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109440" y="825480"/>
            <a:ext cx="8923320" cy="315288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212760" y="3978360"/>
            <a:ext cx="8277120" cy="22953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6"/>
          <a:stretch/>
        </p:blipFill>
        <p:spPr>
          <a:xfrm>
            <a:off x="611280" y="5157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0:5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